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1A9-1EF7-47EA-AD1A-3819AAEF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A82-D672-4E95-AF7A-6A2C952B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C76-3DC5-4EA7-8030-9CFC5A99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770-8107-47E0-AB6E-DFEA92E6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C3C-D949-4A5B-83F7-D0152F97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AFA-4627-453E-948F-D463079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A37-4F16-47C6-8781-0849BB6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07B-49FD-4A27-BF6F-11CD6DB3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074-A435-4D4F-B5DC-2D7FA959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5E5-52EB-4CA9-8AE3-9F1D37EB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036-C5C0-4E5E-B0F0-EB36400A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38B-EBE5-4DAE-BA60-57871E4E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BBD1-E10B-42A0-B486-128D2EBC1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8 Chcem byť tvojím vďačným dieťať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byť tvojím vďačným dieťaťo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če môj, Otče môj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ysloboď ma z žiaľ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vete zl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íš môj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, k teb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sa privinie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len, 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om celým patr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a zvádza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veta kl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, k 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sa, Pane, utiek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spás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, k teb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sa privinie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len, 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om celým patr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zmiet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rážoch márn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ma sám, veď ma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ým svet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k več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svoj domov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, k teb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sa privinie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len, 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om celým patriť chc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05:22:20Z</dcterms:modified>
  <cp:revision>20</cp:revision>
  <dc:subject/>
  <dc:title>Je veľký náš Pán, on slávy je Kráľ Nech do všetkých strán  spev vrúcnych znie chvál.</dc:title>
</cp:coreProperties>
</file>